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AF6-C8C4-4D33-A417-244C606D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FB2-9D66-4845-8A37-9635C682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9F3-60C9-4F5F-85D8-59DFAE0E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14F-4F47-456A-815A-7BC832F3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359-2879-407A-8C5B-F98A299C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E06-79B5-4880-B9BE-D6D1407A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A3A-8360-4177-8574-D9C5D323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BED-D670-4E2A-B793-4D01335A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062-4B36-41FA-B33A-746EF200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59D-1042-4D6A-B64B-ABD1AB01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31D-CD0A-4EB0-AAF0-B229ED20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90F-42C8-4523-AB91-39EBAF80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E1CC-7C5D-4EEE-B881-E39AB357C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ntology of cell types built by biologists for the needs of data annotation and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branch organizes and enumerates in vivo cell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ll Ontology covers cell types from all of bi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ll Ontology i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specific cell lines, immortal or otherwise, although the Cell Ontology may be used to describe such cells if they correspond to an in vivo cell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in vitro methods for preparing cell cultures, although the Cell Ontology may be used to describe the resulting cells if they correspond to an in vivo cell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927520"/>
            <a:ext cx="86868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1960" y="3621240"/>
            <a:ext cx="4419720" cy="5331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962520"/>
            <a:ext cx="73152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5029200"/>
            <a:ext cx="83818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3178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49160" y="1514520"/>
            <a:ext cx="7632720" cy="5267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coming Changes to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Ont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 of multiple is_a inheritance through instantiation of relationships to terms in outside ontologies, such as the GO cellular component, GO biological process, and the PATO phenotype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 work in progress, and we can add terms to the existing ontology a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developed in 2003 by Jonathan Bard, David States, Michael Ashburner, and Seung Rh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described in 2005, Genome Biology, 6:R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ersion i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bofoundr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file cell.o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er Hoffman of SANBI is nominally “official” curator, although the position of editor for the ontology has been unfilled for 9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ll Ontology Working Group is currently considering ways to improve the ontology from an ontological persp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atopoietic cell types were extensively revised in 2006 as part of the GO immunology revision to allow for consistency between the two ont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new cell types introduced (well over 100 cell types in to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_a parentage provided for all hematopoietically deriv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s_from parentage provided for all major hematopoietic line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 and T cell lineages were completely revised and greatly expa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enclature now reflects literature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9160" y="1514520"/>
            <a:ext cx="7632720" cy="5267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8320" y="213372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ndritic Cel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251460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514600"/>
            <a:ext cx="106668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2309760"/>
            <a:ext cx="1752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666880"/>
            <a:ext cx="12189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2927520"/>
            <a:ext cx="86868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1:27:43Z</dcterms:created>
  <dc:creator>Alexander Diehl</dc:creator>
  <dc:description/>
  <dc:language>en-US</dc:language>
  <cp:lastModifiedBy>Alexander Diehl</cp:lastModifiedBy>
  <dcterms:modified xsi:type="dcterms:W3CDTF">2008-05-13T01:30:54Z</dcterms:modified>
  <cp:revision>18</cp:revision>
  <dc:subject/>
  <dc:title>The Cell Ontology</dc:title>
</cp:coreProperties>
</file>